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BB009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8AC-EA09-41F7-A93F-AE4E8E78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282-B4B3-4618-8995-3ED885C3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7BF-634B-457A-859D-1F51A21D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3E7-0756-4DBE-8F7A-0DBCDFD3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D5B1-1DBE-48D3-9F00-B92E0C3C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2543-A489-4D33-86C2-2C0C68CD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A37-F02E-41C3-9849-FADA7291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3744-1839-4E4D-9CAD-F06F98EF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098E-DCEF-45DE-B179-F554D062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D569-413F-4AC0-A233-C30C619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A5D0-AA45-46B6-993E-EAB1709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653-39AB-423A-B70A-906E1285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B2C8-A1FF-44CD-80E6-9B994B8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511C-B370-4192-B67B-C7A82D8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5ACD-F724-4E03-8D26-AD2CAA86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C15B-A51E-4E76-A051-C722DAB1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A58-00DB-4EBE-82D1-24CD4C07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C2D-81E3-4E1A-ACE5-6236186B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2B3-9215-4F68-A626-83DF8217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3C6-0F12-47AB-9F0F-88712103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FF1-C307-4AA8-9600-1FC9DCD8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49A-C74E-4980-9723-1D05C85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880-A92B-4F74-AF00-624CF6D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E65-C824-4891-8D0D-2CFED75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c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dc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c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D73-4A30-42E0-AD53-75E232BA70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c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dc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c9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7FB3-14D2-4D0C-BC6A-83CEC77027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B009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B009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BB009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B009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B009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BB009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B009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B009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BB009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BB009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0099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-412200"/>
            <a:ext cx="324648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9600" spc="-1" strike="noStrike">
                <a:solidFill>
                  <a:srgbClr val="00ffff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9600" spc="-1" strike="noStrike">
                <a:solidFill>
                  <a:srgbClr val="00ffff"/>
                </a:solidFill>
                <a:latin typeface="Angsana New"/>
                <a:ea typeface="KodchiangUPC"/>
              </a:rPr>
              <a:t>6</a:t>
            </a: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050920" y="3716280"/>
            <a:ext cx="6912000" cy="2136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600" spc="-1" strike="noStrike">
                <a:solidFill>
                  <a:srgbClr val="006699"/>
                </a:solidFill>
                <a:latin typeface="Angsana New"/>
                <a:cs typeface="LilyUPC"/>
              </a:rPr>
              <a:t>ตัว </a:t>
            </a:r>
            <a:r>
              <a:rPr b="1" i="1" lang="en-US" sz="5600" spc="-1" strike="noStrike">
                <a:solidFill>
                  <a:srgbClr val="006699"/>
                </a:solidFill>
                <a:latin typeface="Angsana New"/>
                <a:ea typeface="LilyUPC"/>
              </a:rPr>
              <a:t>R </a:t>
            </a:r>
            <a:r>
              <a:rPr b="1" i="1" lang="th-TH" sz="5600" spc="-1" strike="noStrike">
                <a:solidFill>
                  <a:srgbClr val="006699"/>
                </a:solidFill>
                <a:latin typeface="Angsana New"/>
                <a:cs typeface="LilyUPC"/>
              </a:rPr>
              <a:t>หรือ </a:t>
            </a:r>
            <a:r>
              <a:rPr b="1" i="1" lang="en-US" sz="5600" spc="-1" strike="noStrike">
                <a:solidFill>
                  <a:srgbClr val="006699"/>
                </a:solidFill>
                <a:latin typeface="Angsana New"/>
                <a:ea typeface="LilyUPC"/>
              </a:rPr>
              <a:t>L</a:t>
            </a:r>
            <a:r>
              <a:rPr b="1" i="1" lang="th-TH" sz="5600" spc="-1" strike="noStrike">
                <a:solidFill>
                  <a:srgbClr val="006699"/>
                </a:solidFill>
                <a:latin typeface="Angsana New"/>
                <a:ea typeface="LilyUPC"/>
              </a:rPr>
              <a:t> </a:t>
            </a:r>
            <a:r>
              <a:rPr b="1" i="1" lang="th-TH" sz="5600" spc="-1" strike="noStrike">
                <a:solidFill>
                  <a:srgbClr val="006699"/>
                </a:solidFill>
                <a:latin typeface="Angsana New"/>
                <a:cs typeface="LilyUPC"/>
              </a:rPr>
              <a:t>หรือ </a:t>
            </a:r>
            <a:r>
              <a:rPr b="1" i="1" lang="en-US" sz="5600" spc="-1" strike="noStrike">
                <a:solidFill>
                  <a:srgbClr val="006699"/>
                </a:solidFill>
                <a:latin typeface="Angsana New"/>
                <a:ea typeface="LilyUPC"/>
              </a:rPr>
              <a:t>C </a:t>
            </a:r>
            <a:r>
              <a:rPr b="1" i="1" lang="th-TH" sz="5600" spc="-1" strike="noStrike">
                <a:solidFill>
                  <a:srgbClr val="006699"/>
                </a:solidFill>
                <a:latin typeface="Angsana New"/>
                <a:cs typeface="LilyUPC"/>
              </a:rPr>
              <a:t>อย่างเดียว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600" spc="-1" strike="noStrike">
                <a:solidFill>
                  <a:srgbClr val="006699"/>
                </a:solidFill>
                <a:latin typeface="Angsana New"/>
                <a:cs typeface="LilyUPC"/>
              </a:rPr>
              <a:t>ต่อขนานและต่อผสม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  <p:sndAc>
      <p:stSnd>
        <p:snd r:embed="rId2" name="BB0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18920" y="907560"/>
            <a:ext cx="6335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3366"/>
                </a:solidFill>
                <a:latin typeface="Angsana New"/>
                <a:cs typeface="LilyUPC"/>
              </a:rPr>
              <a:t>ตัวเก็บประจุในวงจรผสม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7056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เก็บประจุในวงจรผสม เป็นการต่อตัวเก็บประจุในวงจรไฟฟ้าผสมระหว่างวงจรอนุกรมและวงจรขนาน ส่วนใดต่ออนุกรมพิจารณาแบบอนุกรม ส่วนใดต่อขนานพิจารณาแบบขน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เก็บประจุในวงจรผส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3" name="BB009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050560" y="5445000"/>
            <a:ext cx="6193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วงจรตัวต้านทานต่อขนานในวงจรไฟฟ้ากระแสสล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ต้านทานในวงจรขน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979640" y="764640"/>
            <a:ext cx="6121440" cy="100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3366"/>
                </a:solidFill>
                <a:latin typeface="Times New Roman"/>
                <a:cs typeface="LilyUPC"/>
              </a:rPr>
              <a:t>ตัวต้านทานในวงจรขนาน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84120" y="4653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งจรไฟฟ้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60840" y="4653000"/>
            <a:ext cx="31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979640" y="2421000"/>
            <a:ext cx="6769080" cy="1800000"/>
          </a:xfrm>
          <a:prstGeom prst="rect">
            <a:avLst/>
          </a:prstGeom>
          <a:ln w="9360">
            <a:solidFill>
              <a:srgbClr val="0dc9ef"/>
            </a:solidFill>
            <a:miter/>
          </a:ln>
        </p:spPr>
      </p:pic>
      <p:sp>
        <p:nvSpPr>
          <p:cNvPr id="141" name=""/>
          <p:cNvSpPr/>
          <p:nvPr/>
        </p:nvSpPr>
        <p:spPr>
          <a:xfrm flipH="1" flipV="1" rot="5400000">
            <a:off x="2728440" y="2463480"/>
            <a:ext cx="230040" cy="7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8001156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800115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4" name="BB009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419640" y="1268280"/>
                <a:ext cx="29034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19640" y="2205000"/>
                <a:ext cx="3163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19640" y="3500280"/>
                <a:ext cx="2792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19640" y="4365720"/>
                <a:ext cx="2419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19640" y="5229360"/>
                <a:ext cx="24206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ต้านทานในวงจรขน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3" name="BB009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907640" y="2349000"/>
            <a:ext cx="6767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ตัวต้านทานในวงจรผสม เป็นการต่อตัวต้านทานในวงจรไฟฟ้าผสมระหว่างวงจรอนุกรมและวงจรขนาน ส่วนใดต่ออนุกรมพิจารณาแบบอนุกรม ส่วนใดต่อขนานพิจารณาแบบขน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834920" y="1052280"/>
            <a:ext cx="5616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3366"/>
                </a:solidFill>
                <a:latin typeface="Times New Roman"/>
                <a:cs typeface="LilyUPC"/>
              </a:rPr>
              <a:t>ตัวต้านทานในวงจรผสม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ต้านทานในวงจรผส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3" name="BB009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835280" y="5516640"/>
            <a:ext cx="669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ตัวเหนี่ยวนำต่อขนานในวงจรไฟฟ้ากระแสสล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692000" y="691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3366"/>
                </a:solidFill>
                <a:latin typeface="Times New Roman"/>
                <a:cs typeface="LilyUPC"/>
              </a:rPr>
              <a:t>ตัวเหนี่ยวนำในวงจรขนาน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00120" y="49417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งจรไฟฟ้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76840" y="4869000"/>
            <a:ext cx="31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เหนี่ยวนำในวงจรขน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2305080" cy="2592360"/>
          </a:xfrm>
          <a:prstGeom prst="rect">
            <a:avLst/>
          </a:prstGeom>
          <a:ln w="9360">
            <a:solidFill>
              <a:srgbClr val="0dc9e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763640" y="2781360"/>
            <a:ext cx="3456000" cy="1655640"/>
          </a:xfrm>
          <a:prstGeom prst="rect">
            <a:avLst/>
          </a:prstGeom>
          <a:ln w="9360">
            <a:solidFill>
              <a:srgbClr val="0dc9ef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85928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 rot="5400000">
            <a:off x="2458800" y="2878560"/>
            <a:ext cx="336600" cy="7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8001156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800115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763000">
            <a:off x="6393240" y="2273760"/>
            <a:ext cx="147600" cy="571680"/>
          </a:xfrm>
          <a:custGeom>
            <a:avLst/>
            <a:gdLst>
              <a:gd name="textAreaLeft" fmla="*/ 0 w 147600"/>
              <a:gd name="textAreaRight" fmla="*/ 103680 w 14760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5" name="BB009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492360" y="907920"/>
                <a:ext cx="30895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492360" y="2205000"/>
                <a:ext cx="309564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92360" y="3500280"/>
                <a:ext cx="3095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92360" y="4292640"/>
                <a:ext cx="3311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492360" y="5084640"/>
                <a:ext cx="3311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เหนี่ยวนำในวงจรขน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3" name="BB009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979280" y="2492280"/>
            <a:ext cx="655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ัวเหนี่ยวนำในวงจรผสม เป็นการต่อตัวเหนี่ยวนำในวงจรไฟฟ้าผสมระหว่างวงจรอนุกรมและวงจรขนาน ส่วนใดต่ออนุกรมพิจารณา แบบอนุกรม ส่วนใดต่อขนานพิจารณาแบบขนา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763280" y="119664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3366"/>
                </a:solidFill>
                <a:latin typeface="Times New Roman"/>
                <a:cs typeface="LilyUPC"/>
              </a:rPr>
              <a:t>ตัวเหนี่ยวนำในวงจรผสม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เหนี่ยวนำในวงจรผส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3" name="BB009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979280" y="5516280"/>
            <a:ext cx="66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ตัวเก็บประจุต่อขนานในวงจรไฟฟ้ากระแสสล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979640" y="549000"/>
            <a:ext cx="63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3366"/>
                </a:solidFill>
                <a:latin typeface="Times New Roman"/>
                <a:cs typeface="LilyUPC"/>
              </a:rPr>
              <a:t>ตัวเก็บประจุในวงจรขนาน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39760" y="4653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งจรไฟฟ้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4840" y="4653000"/>
            <a:ext cx="31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เก็บประจุในวงจรขน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724360" y="2133720"/>
            <a:ext cx="2592720" cy="2374920"/>
          </a:xfrm>
          <a:prstGeom prst="rect">
            <a:avLst/>
          </a:prstGeom>
          <a:ln w="9360">
            <a:solidFill>
              <a:srgbClr val="0dc9ef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908000" y="2637000"/>
            <a:ext cx="3456000" cy="1871640"/>
          </a:xfrm>
          <a:prstGeom prst="rect">
            <a:avLst/>
          </a:prstGeom>
          <a:ln w="9360">
            <a:solidFill>
              <a:srgbClr val="0dc9ef"/>
            </a:solidFill>
            <a:miter/>
          </a:ln>
        </p:spPr>
      </p:pic>
    </p:spTree>
  </p:cSld>
  <p:transition spd="slow" advTm="30000">
    <p:checker dir="vert"/>
    <p:sndAc>
      <p:stSnd>
        <p:snd r:embed="rId5" name="BB009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ffff"/>
            </a:gs>
            <a:gs pos="100000">
              <a:srgbClr val="00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471840" y="981000"/>
                <a:ext cx="2992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492360" y="1844640"/>
                <a:ext cx="34182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492360" y="3213000"/>
                <a:ext cx="3095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92360" y="4005360"/>
                <a:ext cx="3073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492360" y="4797360"/>
                <a:ext cx="27082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403280" y="0"/>
            <a:ext cx="5616720" cy="100872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ย่างเดียวต่อขนานและต่อผส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ตัวเก็บประจุในวงจรขน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3" name="BB009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1:04:42Z</dcterms:created>
  <dc:creator>ADMIN</dc:creator>
  <dc:description/>
  <dc:language>en-US</dc:language>
  <cp:lastModifiedBy>พี่อุอุ๊</cp:lastModifiedBy>
  <dcterms:modified xsi:type="dcterms:W3CDTF">2005-11-14T03:07:13Z</dcterms:modified>
  <cp:revision>45</cp:revision>
  <dc:subject/>
  <dc:title>งานนำเสนอ PowerPoint</dc:title>
</cp:coreProperties>
</file>